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2.wmf" ContentType="image/x-wmf"/>
  <Override PartName="/ppt/media/image20.jpeg" ContentType="image/jpeg"/>
  <Override PartName="/ppt/media/image29.wmf" ContentType="image/x-wmf"/>
  <Override PartName="/ppt/media/image6.wmf" ContentType="image/x-wmf"/>
  <Override PartName="/ppt/media/image31.wmf" ContentType="image/x-wmf"/>
  <Override PartName="/ppt/media/image1.jpeg" ContentType="image/jpeg"/>
  <Override PartName="/ppt/media/image7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23.wmf" ContentType="image/x-wmf"/>
  <Override PartName="/ppt/media/image11.jpeg" ContentType="image/jpeg"/>
  <Override PartName="/ppt/media/image30.wmf" ContentType="image/x-wmf"/>
  <Override PartName="/ppt/media/image5.wmf" ContentType="image/x-wmf"/>
  <Override PartName="/ppt/media/image28.wmf" ContentType="image/x-wmf"/>
  <Override PartName="/ppt/media/image12.wmf" ContentType="image/x-wmf"/>
  <Override PartName="/ppt/media/image33.gif" ContentType="image/gif"/>
  <Override PartName="/ppt/media/image19.wmf" ContentType="image/x-wmf"/>
  <Override PartName="/ppt/media/image10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1.jpeg" ContentType="image/jpeg"/>
  <Override PartName="/ppt/media/image2.wmf" ContentType="image/x-wmf"/>
  <Override PartName="/ppt/media/image3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9D7-D01F-4731-9E6B-CB97C41F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F4E-39A3-497F-AB34-D02CBB41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457-383A-4939-9152-9BAEDA48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C9E5-3789-4B67-BBEE-134EF190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CAB-4C94-4193-AC32-54253C8F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85ED-7889-4B34-8F4E-C26F16AB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8DE-BEA4-43E2-A317-0AFF0A82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8FA-60F8-49BD-B0DB-8354E6E6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D037-3F31-4FC9-87C8-39E2CF3B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7F6-5C4B-4583-A61A-CD3D2F62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24F9-AFD1-4014-A2D7-F8C18FE2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DD9-4D5E-4818-8BA8-92FBF765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A1C3-EBA2-4B28-8074-E07B125F1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.jpeg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84582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a50021"/>
                </a:solidFill>
                <a:uFillTx/>
                <a:latin typeface="Arial Black"/>
              </a:rPr>
              <a:t>Социальная мобильность.</a:t>
            </a:r>
            <a:r>
              <a:rPr b="1" lang="ru-RU" sz="4400" spc="-1" strike="noStrike" u="sng">
                <a:solidFill>
                  <a:srgbClr val="a50021"/>
                </a:solidFill>
                <a:uFillTx/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79640" y="1181160"/>
            <a:ext cx="541188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</a:rPr>
              <a:t>социальн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50000">
                      <a:srgbClr val="ff0000"/>
                    </a:gs>
                    <a:gs pos="100000">
                      <a:srgbClr val="750000"/>
                    </a:gs>
                  </a:gsLst>
                  <a:lin ang="5400000"/>
                </a:gradFill>
                <a:latin typeface="Arial"/>
              </a:rPr>
              <a:t>мобильн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50000">
                    <a:srgbClr val="ff0000"/>
                  </a:gs>
                  <a:gs pos="100000">
                    <a:srgbClr val="75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6880" y="2565360"/>
            <a:ext cx="2553480" cy="2004840"/>
            <a:chOff x="686880" y="2565360"/>
            <a:chExt cx="2553480" cy="200484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236600" y="2565360"/>
              <a:ext cx="14511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86880" y="3744720"/>
              <a:ext cx="255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дустриальное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ще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924360" y="2276640"/>
            <a:ext cx="4841640" cy="2385720"/>
            <a:chOff x="3924360" y="2276640"/>
            <a:chExt cx="4841640" cy="2385720"/>
          </a:xfrm>
        </p:grpSpPr>
        <p:grpSp>
          <p:nvGrpSpPr>
            <p:cNvPr id="144" name=""/>
            <p:cNvGrpSpPr/>
            <p:nvPr/>
          </p:nvGrpSpPr>
          <p:grpSpPr>
            <a:xfrm>
              <a:off x="3924360" y="2276640"/>
              <a:ext cx="4575240" cy="1652400"/>
              <a:chOff x="3924360" y="2276640"/>
              <a:chExt cx="4575240" cy="1652400"/>
            </a:xfrm>
          </p:grpSpPr>
          <p:sp>
            <p:nvSpPr>
              <p:cNvPr id="145" name=""/>
              <p:cNvSpPr/>
              <p:nvPr/>
            </p:nvSpPr>
            <p:spPr>
              <a:xfrm>
                <a:off x="3924360" y="3110040"/>
                <a:ext cx="976320" cy="485640"/>
              </a:xfrm>
              <a:prstGeom prst="rightArrow">
                <a:avLst>
                  <a:gd name="adj1" fmla="val 50000"/>
                  <a:gd name="adj2" fmla="val 50259"/>
                </a:avLst>
              </a:prstGeom>
              <a:solidFill>
                <a:srgbClr val="ffcc00"/>
              </a:solidFill>
              <a:ln w="572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067360" y="2347920"/>
                <a:ext cx="712800" cy="158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1080" y="2276640"/>
                <a:ext cx="1298520" cy="15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5843520" y="3262320"/>
                <a:ext cx="900360" cy="228600"/>
              </a:xfrm>
              <a:prstGeom prst="rightArrow">
                <a:avLst>
                  <a:gd name="adj1" fmla="val 50000"/>
                  <a:gd name="adj2" fmla="val 98465"/>
                </a:avLst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197600" y="3836880"/>
              <a:ext cx="4568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циальный статус изменяет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овольно легк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066680" y="4648320"/>
            <a:ext cx="7772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716360" y="4869000"/>
            <a:ext cx="4109760" cy="1755720"/>
            <a:chOff x="4716360" y="4869000"/>
            <a:chExt cx="4109760" cy="1755720"/>
          </a:xfrm>
        </p:grpSpPr>
        <p:sp>
          <p:nvSpPr>
            <p:cNvPr id="152" name=""/>
            <p:cNvSpPr txBox="1"/>
            <p:nvPr/>
          </p:nvSpPr>
          <p:spPr>
            <a:xfrm>
              <a:off x="4716360" y="4869000"/>
              <a:ext cx="41097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3399"/>
                      </a:gs>
                      <a:gs pos="100000">
                        <a:srgbClr val="3366ff"/>
                      </a:gs>
                    </a:gsLst>
                    <a:lin ang="10800000"/>
                  </a:gradFill>
                  <a:latin typeface="Arial"/>
                </a:rPr>
                <a:t>самореализац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19720" y="5799240"/>
              <a:ext cx="300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 любом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циальном статус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50920" y="4800600"/>
            <a:ext cx="3961800" cy="2057400"/>
            <a:chOff x="250920" y="4800600"/>
            <a:chExt cx="3961800" cy="2057400"/>
          </a:xfrm>
        </p:grpSpPr>
        <p:pic>
          <p:nvPicPr>
            <p:cNvPr id="155" name="" descr=""/>
            <p:cNvPicPr/>
            <p:nvPr/>
          </p:nvPicPr>
          <p:blipFill>
            <a:blip r:embed="rId5"/>
            <a:stretch/>
          </p:blipFill>
          <p:spPr>
            <a:xfrm>
              <a:off x="250920" y="5181840"/>
              <a:ext cx="103320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1469880" y="5884920"/>
              <a:ext cx="99000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7"/>
            <a:stretch/>
          </p:blipFill>
          <p:spPr>
            <a:xfrm>
              <a:off x="1572840" y="4800600"/>
              <a:ext cx="81108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765160" y="4953240"/>
              <a:ext cx="1447560" cy="1752480"/>
            </a:xfrm>
            <a:prstGeom prst="rightArrowCallout">
              <a:avLst>
                <a:gd name="adj1" fmla="val 30269"/>
                <a:gd name="adj2" fmla="val 30266"/>
                <a:gd name="adj3" fmla="val 16667"/>
                <a:gd name="adj4" fmla="val 45065"/>
              </a:avLst>
            </a:prstGeom>
            <a:solidFill>
              <a:srgbClr val="ffff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42920" y="26028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3743280"/>
          </a:xfrm>
          <a:prstGeom prst="rect">
            <a:avLst/>
          </a:prstGeom>
          <a:solidFill>
            <a:srgbClr val="b5956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циальная мобильность необходима, т.к. служит неотъемлемой частью культуры в любом современном индустриально развитом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условиях современного открытого общества от вас самих зависит, какое положение вы будете занимать в обществе, в какой социальной группе нахо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Благодаря своим собственным усилиям вы смож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ить социальное положение, переместиться с одной ступеньки социальной лестницы на друг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55640" y="5373720"/>
            <a:ext cx="754200" cy="2009520"/>
            <a:chOff x="755640" y="5373720"/>
            <a:chExt cx="754200" cy="200952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755640" y="5373720"/>
              <a:ext cx="75420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080360" y="6557760"/>
              <a:ext cx="180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268360" y="5661000"/>
            <a:ext cx="2801880" cy="1539720"/>
            <a:chOff x="2268360" y="5661000"/>
            <a:chExt cx="2801880" cy="1539720"/>
          </a:xfrm>
        </p:grpSpPr>
        <p:grpSp>
          <p:nvGrpSpPr>
            <p:cNvPr id="166" name=""/>
            <p:cNvGrpSpPr/>
            <p:nvPr/>
          </p:nvGrpSpPr>
          <p:grpSpPr>
            <a:xfrm>
              <a:off x="2268360" y="5661000"/>
              <a:ext cx="2801880" cy="987480"/>
              <a:chOff x="2268360" y="5661000"/>
              <a:chExt cx="2801880" cy="987480"/>
            </a:xfrm>
          </p:grpSpPr>
          <p:pic>
            <p:nvPicPr>
              <p:cNvPr id="1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30120" y="5661000"/>
                <a:ext cx="204012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68360" y="5661000"/>
                <a:ext cx="350640" cy="9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2572920" y="6194520"/>
                <a:ext cx="45720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3584160" y="674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867280" y="5589720"/>
            <a:ext cx="2590560" cy="1544400"/>
            <a:chOff x="5867280" y="5589720"/>
            <a:chExt cx="2590560" cy="1544400"/>
          </a:xfrm>
        </p:grpSpPr>
        <p:grpSp>
          <p:nvGrpSpPr>
            <p:cNvPr id="172" name=""/>
            <p:cNvGrpSpPr/>
            <p:nvPr/>
          </p:nvGrpSpPr>
          <p:grpSpPr>
            <a:xfrm>
              <a:off x="5867280" y="5589720"/>
              <a:ext cx="2590560" cy="1122120"/>
              <a:chOff x="5867280" y="5589720"/>
              <a:chExt cx="2590560" cy="1122120"/>
            </a:xfrm>
          </p:grpSpPr>
          <p:pic>
            <p:nvPicPr>
              <p:cNvPr id="1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67280" y="5645160"/>
                <a:ext cx="350640" cy="96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667200" y="5589720"/>
                <a:ext cx="1790640" cy="112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6171840" y="6102360"/>
                <a:ext cx="53352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103880" y="6676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11280" y="260280"/>
            <a:ext cx="820404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10520" y="9810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вод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820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азите графически вертикальную (   ) и горизонтальную (   ) мобильность по следующим позиция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изменение профессии: рабочий стал инжен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ереезд из одного города в другой без изменения профе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повышение квалификации в рамках одной профессии ( инженер – ведущий  инженер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повышение уровня образования ( техник, получив высшее образование, стал начальником цех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) понижение в долж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72400" cy="6523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1052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596360" y="162828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213372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709120" cy="3888000"/>
          </a:xfrm>
          <a:prstGeom prst="rect">
            <a:avLst/>
          </a:prstGeom>
          <a:solidFill>
            <a:srgbClr val="b5956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акой канал социальной мобильности вы считаете самым подходящим для себя? Ответ аргументиру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26920" y="1700280"/>
            <a:ext cx="7777440" cy="86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 за уро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208764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84360" y="1341360"/>
            <a:ext cx="1600200" cy="1495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809640" cy="1524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164360" y="1341360"/>
            <a:ext cx="1473120" cy="1495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219640" y="1341360"/>
            <a:ext cx="1273320" cy="15051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grpSp>
        <p:nvGrpSpPr>
          <p:cNvPr id="47" name=""/>
          <p:cNvGrpSpPr/>
          <p:nvPr/>
        </p:nvGrpSpPr>
        <p:grpSpPr>
          <a:xfrm>
            <a:off x="250920" y="4653000"/>
            <a:ext cx="8424360" cy="2017080"/>
            <a:chOff x="250920" y="4653000"/>
            <a:chExt cx="8424360" cy="2017080"/>
          </a:xfrm>
        </p:grpSpPr>
        <p:sp>
          <p:nvSpPr>
            <p:cNvPr id="48" name=""/>
            <p:cNvSpPr/>
            <p:nvPr/>
          </p:nvSpPr>
          <p:spPr>
            <a:xfrm>
              <a:off x="2335680" y="4682160"/>
              <a:ext cx="6339600" cy="1922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Социальная мобильность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изменение места, занимаемого человеко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или группой людей в социальной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 </a:t>
              </a:r>
              <a:r>
                <a:rPr b="1" lang="ru-RU" sz="24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структуре общества.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50920" y="4653000"/>
              <a:ext cx="2325600" cy="201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"/>
          <p:cNvSpPr txBox="1"/>
          <p:nvPr/>
        </p:nvSpPr>
        <p:spPr>
          <a:xfrm>
            <a:off x="1692360" y="2637000"/>
            <a:ext cx="54766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ятие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циальной мобильности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53440" y="4724280"/>
            <a:ext cx="2289960" cy="1892160"/>
            <a:chOff x="253440" y="4724280"/>
            <a:chExt cx="2289960" cy="189216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022400" y="4724280"/>
              <a:ext cx="635040" cy="1195200"/>
            </a:xfrm>
            <a:prstGeom prst="rect">
              <a:avLst/>
            </a:prstGeom>
            <a:ln w="9360">
              <a:solidFill>
                <a:srgbClr val="800000"/>
              </a:solidFill>
              <a:miter/>
            </a:ln>
          </p:spPr>
        </p:pic>
        <p:sp>
          <p:nvSpPr>
            <p:cNvPr id="54" name=""/>
            <p:cNvSpPr/>
            <p:nvPr/>
          </p:nvSpPr>
          <p:spPr>
            <a:xfrm>
              <a:off x="253440" y="5790960"/>
              <a:ext cx="2289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циальн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схожде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703240" y="5084640"/>
            <a:ext cx="1884600" cy="1491480"/>
            <a:chOff x="2703240" y="5084640"/>
            <a:chExt cx="1884600" cy="1491480"/>
          </a:xfrm>
        </p:grpSpPr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3249360" y="5084640"/>
              <a:ext cx="87156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703240" y="6116400"/>
              <a:ext cx="188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зовани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560480" y="4876920"/>
            <a:ext cx="2445480" cy="1450080"/>
            <a:chOff x="4560480" y="4876920"/>
            <a:chExt cx="2445480" cy="145008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5486400" y="4876920"/>
              <a:ext cx="534960" cy="100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560480" y="5867280"/>
              <a:ext cx="244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ациональност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890760" y="5157720"/>
            <a:ext cx="2247120" cy="1296360"/>
            <a:chOff x="6890760" y="5157720"/>
            <a:chExt cx="2247120" cy="1296360"/>
          </a:xfrm>
        </p:grpSpPr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545240" y="5157720"/>
              <a:ext cx="936720" cy="9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890760" y="5994360"/>
              <a:ext cx="224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валификац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324000" y="126828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3716280"/>
            <a:ext cx="1944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тир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рок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1484280"/>
            <a:ext cx="6048360" cy="3080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циальная мобильность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то любой переход индивида, группы или социального объе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ценности, от одной социаль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зиции к другой, в результа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го социальное положение индивида или группы меняет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147492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752560"/>
          <a:ext cx="4033800" cy="22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752560"/>
                    <a:ext cx="403380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029200" y="2565360"/>
          <a:ext cx="3822840" cy="255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2565360"/>
                    <a:ext cx="382284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042920" y="6165720"/>
            <a:ext cx="5616720" cy="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042920" y="1773000"/>
            <a:ext cx="0" cy="4392360"/>
          </a:xfrm>
          <a:prstGeom prst="line">
            <a:avLst/>
          </a:prstGeom>
          <a:ln w="7632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63640" y="5516640"/>
            <a:ext cx="50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4076640"/>
            <a:ext cx="504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5445000"/>
            <a:ext cx="504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95640" y="4508280"/>
            <a:ext cx="0" cy="865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5661000"/>
            <a:ext cx="1008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7600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1052640"/>
            <a:ext cx="644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тикальная мобильность - совокупность    взаимодействий, способствующих переходу индивида из одного социального слоя в друг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изонтальная мобильность – перех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ивида от одной социальной пози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другой, находящейся на том же уровн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4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6985080" cy="5640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561080" cy="72072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95280" y="1066680"/>
            <a:ext cx="7467840" cy="1447920"/>
            <a:chOff x="1295280" y="1066680"/>
            <a:chExt cx="7467840" cy="1447920"/>
          </a:xfrm>
        </p:grpSpPr>
        <p:sp>
          <p:nvSpPr>
            <p:cNvPr id="86" name=""/>
            <p:cNvSpPr txBox="1"/>
            <p:nvPr/>
          </p:nvSpPr>
          <p:spPr>
            <a:xfrm>
              <a:off x="1295280" y="1752480"/>
              <a:ext cx="74678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bf00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Arial"/>
                </a:rPr>
                <a:t>переход человека из одной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fbf00"/>
                      </a:gs>
                    </a:gsLst>
                    <a:path path="rect">
                      <a:fillToRect l="50000" t="50000" r="50000" b="50000"/>
                    </a:path>
                  </a:gradFill>
                  <a:latin typeface="Arial"/>
                </a:rPr>
                <a:t>социальной группы в  другую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  <a:ea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4280" y="1066680"/>
              <a:ext cx="457200" cy="762120"/>
            </a:xfrm>
            <a:prstGeom prst="downArrow">
              <a:avLst>
                <a:gd name="adj1" fmla="val 50000"/>
                <a:gd name="adj2" fmla="val 4167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600200" y="2514600"/>
            <a:ext cx="3352680" cy="1832040"/>
            <a:chOff x="1600200" y="2514600"/>
            <a:chExt cx="3352680" cy="1832040"/>
          </a:xfrm>
        </p:grpSpPr>
        <p:grpSp>
          <p:nvGrpSpPr>
            <p:cNvPr id="89" name=""/>
            <p:cNvGrpSpPr/>
            <p:nvPr/>
          </p:nvGrpSpPr>
          <p:grpSpPr>
            <a:xfrm>
              <a:off x="1600200" y="2514600"/>
              <a:ext cx="3352680" cy="952560"/>
              <a:chOff x="1600200" y="2514600"/>
              <a:chExt cx="3352680" cy="952560"/>
            </a:xfrm>
          </p:grpSpPr>
          <p:sp>
            <p:nvSpPr>
              <p:cNvPr id="90" name=""/>
              <p:cNvSpPr txBox="1"/>
              <p:nvPr/>
            </p:nvSpPr>
            <p:spPr>
              <a:xfrm>
                <a:off x="1600200" y="3124080"/>
                <a:ext cx="289260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4646"/>
                        </a:gs>
                        <a:gs pos="50000">
                          <a:srgbClr val="009999"/>
                        </a:gs>
                        <a:gs pos="100000">
                          <a:srgbClr val="004646"/>
                        </a:gs>
                      </a:gsLst>
                      <a:lin ang="5400000"/>
                    </a:gradFill>
                    <a:latin typeface="Arial"/>
                  </a:rPr>
                  <a:t>горизонтальна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4646"/>
                      </a:gs>
                      <a:gs pos="50000">
                        <a:srgbClr val="009999"/>
                      </a:gs>
                      <a:gs pos="100000">
                        <a:srgbClr val="004646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3733920" y="2514600"/>
                <a:ext cx="1218960" cy="53352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681200" y="3521160"/>
              <a:ext cx="2657160" cy="825480"/>
            </a:xfrm>
            <a:prstGeom prst="rect">
              <a:avLst/>
            </a:prstGeom>
            <a:solidFill>
              <a:srgbClr val="ccffff"/>
            </a:soli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емья-Семья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абрика-фабрик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952880" y="2514600"/>
            <a:ext cx="3200400" cy="1816200"/>
            <a:chOff x="4952880" y="2514600"/>
            <a:chExt cx="3200400" cy="1816200"/>
          </a:xfrm>
        </p:grpSpPr>
        <p:grpSp>
          <p:nvGrpSpPr>
            <p:cNvPr id="94" name=""/>
            <p:cNvGrpSpPr/>
            <p:nvPr/>
          </p:nvGrpSpPr>
          <p:grpSpPr>
            <a:xfrm>
              <a:off x="4952880" y="2514600"/>
              <a:ext cx="3200400" cy="952560"/>
              <a:chOff x="4952880" y="2514600"/>
              <a:chExt cx="3200400" cy="952560"/>
            </a:xfrm>
          </p:grpSpPr>
          <p:sp>
            <p:nvSpPr>
              <p:cNvPr id="95" name=""/>
              <p:cNvSpPr txBox="1"/>
              <p:nvPr/>
            </p:nvSpPr>
            <p:spPr>
              <a:xfrm>
                <a:off x="5261040" y="3124080"/>
                <a:ext cx="28922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566768"/>
                        </a:gs>
                        <a:gs pos="50000">
                          <a:srgbClr val="bbe0e3"/>
                        </a:gs>
                        <a:gs pos="100000">
                          <a:srgbClr val="566768"/>
                        </a:gs>
                      </a:gsLst>
                      <a:lin ang="5400000"/>
                    </a:gradFill>
                    <a:latin typeface="Arial"/>
                  </a:rPr>
                  <a:t>вертикальна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66768"/>
                      </a:gs>
                      <a:gs pos="50000">
                        <a:srgbClr val="bbe0e3"/>
                      </a:gs>
                      <a:gs pos="100000">
                        <a:srgbClr val="566768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952880" y="2514600"/>
                <a:ext cx="1143000" cy="533520"/>
              </a:xfrm>
              <a:prstGeom prst="line">
                <a:avLst/>
              </a:prstGeom>
              <a:ln w="57240">
                <a:solidFill>
                  <a:srgbClr val="bbe0e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673240" y="3505320"/>
              <a:ext cx="2171160" cy="82548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лужащий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управляющи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752480" y="4572000"/>
            <a:ext cx="2438640" cy="2019240"/>
            <a:chOff x="1752480" y="4572000"/>
            <a:chExt cx="2438640" cy="2019240"/>
          </a:xfrm>
        </p:grpSpPr>
        <p:sp>
          <p:nvSpPr>
            <p:cNvPr id="99" name=""/>
            <p:cNvSpPr txBox="1"/>
            <p:nvPr/>
          </p:nvSpPr>
          <p:spPr>
            <a:xfrm>
              <a:off x="1752480" y="4572000"/>
              <a:ext cx="243864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5261c"/>
                      </a:gs>
                      <a:gs pos="5000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низка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5000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5261c"/>
                      </a:gs>
                      <a:gs pos="5000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активност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5000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2590920" y="5257800"/>
              <a:ext cx="780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2362320" y="6324480"/>
              <a:ext cx="1201680" cy="26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каст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562720" y="4572000"/>
            <a:ext cx="2590560" cy="2133720"/>
            <a:chOff x="5562720" y="4572000"/>
            <a:chExt cx="2590560" cy="2133720"/>
          </a:xfrm>
        </p:grpSpPr>
        <p:sp>
          <p:nvSpPr>
            <p:cNvPr id="103" name=""/>
            <p:cNvSpPr txBox="1"/>
            <p:nvPr/>
          </p:nvSpPr>
          <p:spPr>
            <a:xfrm>
              <a:off x="5562720" y="4572000"/>
              <a:ext cx="23619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cc"/>
                    </a:solidFill>
                    <a:miter/>
                  </a:ln>
                  <a:gradFill rotWithShape="0">
                    <a:gsLst>
                      <a:gs pos="0">
                        <a:srgbClr val="006699"/>
                      </a:gs>
                      <a:gs pos="50000">
                        <a:srgbClr val="3399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atin typeface="Arial"/>
                </a:rPr>
                <a:t>высокая</a:t>
              </a:r>
              <a:endParaRPr b="1" lang="en-US" sz="2400" spc="1" strike="noStrike">
                <a:ln w="9360">
                  <a:solidFill>
                    <a:srgbClr val="0000cc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cc"/>
                    </a:solidFill>
                    <a:miter/>
                  </a:ln>
                  <a:gradFill rotWithShape="0">
                    <a:gsLst>
                      <a:gs pos="0">
                        <a:srgbClr val="006699"/>
                      </a:gs>
                      <a:gs pos="50000">
                        <a:srgbClr val="3399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atin typeface="Arial"/>
                </a:rPr>
                <a:t>активность</a:t>
              </a:r>
              <a:endParaRPr b="1" lang="en-US" sz="2400" spc="1" strike="noStrike">
                <a:ln w="9360">
                  <a:solidFill>
                    <a:srgbClr val="0000cc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5867280" y="5181480"/>
              <a:ext cx="182880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 txBox="1"/>
            <p:nvPr/>
          </p:nvSpPr>
          <p:spPr>
            <a:xfrm>
              <a:off x="5562720" y="6324480"/>
              <a:ext cx="2590560" cy="38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</a:rPr>
                <a:t>револю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ые «лифт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1143000"/>
            <a:ext cx="7439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быстрое социальное перемещ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47920" y="2701800"/>
            <a:ext cx="1874880" cy="1110600"/>
            <a:chOff x="1447920" y="2701800"/>
            <a:chExt cx="1874880" cy="11106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447920" y="2701800"/>
              <a:ext cx="187488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714680" y="335268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РМ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120200" y="2092320"/>
            <a:ext cx="1669680" cy="1679040"/>
            <a:chOff x="4120200" y="2092320"/>
            <a:chExt cx="1669680" cy="167904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4571640" y="2092320"/>
              <a:ext cx="70812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120200" y="331164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ЦЕРКОВ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83200" y="2320920"/>
            <a:ext cx="1422720" cy="1450440"/>
            <a:chOff x="6883200" y="2320920"/>
            <a:chExt cx="1422720" cy="1450440"/>
          </a:xfrm>
        </p:grpSpPr>
        <p:pic>
          <p:nvPicPr>
            <p:cNvPr id="115" name="" descr=""/>
            <p:cNvPicPr/>
            <p:nvPr/>
          </p:nvPicPr>
          <p:blipFill>
            <a:blip r:embed="rId4"/>
            <a:stretch/>
          </p:blipFill>
          <p:spPr>
            <a:xfrm>
              <a:off x="6934320" y="2320920"/>
              <a:ext cx="137160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883200" y="3311640"/>
              <a:ext cx="142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ШКОЛ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514160" y="4543560"/>
            <a:ext cx="1759680" cy="1191240"/>
          </a:xfrm>
          <a:prstGeom prst="rect">
            <a:avLst/>
          </a:prstGeom>
          <a:solidFill>
            <a:srgbClr val="ccffff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мв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шингт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поле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92520" y="4314960"/>
            <a:ext cx="2666520" cy="1557000"/>
          </a:xfrm>
          <a:prstGeom prst="rect">
            <a:avLst/>
          </a:prstGeom>
          <a:solidFill>
            <a:srgbClr val="ccffff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пископы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 народ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разжалованны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оли-ере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38040" y="4711680"/>
            <a:ext cx="2122560" cy="825480"/>
          </a:xfrm>
          <a:prstGeom prst="rect">
            <a:avLst/>
          </a:prstGeom>
          <a:solidFill>
            <a:srgbClr val="ccffff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ледж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ниверсите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оциальная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95640" y="1197000"/>
            <a:ext cx="5343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755e00"/>
                    </a:gs>
                    <a:gs pos="50000">
                      <a:srgbClr val="ffcc00"/>
                    </a:gs>
                    <a:gs pos="100000">
                      <a:srgbClr val="755e00"/>
                    </a:gs>
                  </a:gsLst>
                  <a:lin ang="5400000"/>
                </a:gradFill>
                <a:latin typeface="Arial"/>
              </a:rPr>
              <a:t>социальная мобильность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755e00"/>
                  </a:gs>
                  <a:gs pos="50000">
                    <a:srgbClr val="ffcc00"/>
                  </a:gs>
                  <a:gs pos="100000">
                    <a:srgbClr val="755e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205000"/>
            <a:ext cx="852804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крытое» общество характеризуется мал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бильностью. Доступ в статусную группу ограниче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55640" y="3357720"/>
            <a:ext cx="4103280" cy="1211400"/>
            <a:chOff x="755640" y="3357720"/>
            <a:chExt cx="4103280" cy="1211400"/>
          </a:xfrm>
        </p:grpSpPr>
        <p:graphicFrame>
          <p:nvGraphicFramePr>
            <p:cNvPr id="125" name=""/>
            <p:cNvGraphicFramePr/>
            <p:nvPr/>
          </p:nvGraphicFramePr>
          <p:xfrm>
            <a:off x="755640" y="3357720"/>
            <a:ext cx="832320" cy="1211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5640" y="3357720"/>
                      <a:ext cx="832320" cy="121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7" name=""/>
            <p:cNvSpPr/>
            <p:nvPr/>
          </p:nvSpPr>
          <p:spPr>
            <a:xfrm>
              <a:off x="2521800" y="3691080"/>
              <a:ext cx="23371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радиционн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ществ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29920" y="3967200"/>
              <a:ext cx="110304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651640" y="359424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ый стату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ить сло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651640" y="5105520"/>
            <a:ext cx="3312720" cy="1389960"/>
            <a:chOff x="5651640" y="5105520"/>
            <a:chExt cx="3312720" cy="1389960"/>
          </a:xfrm>
        </p:grpSpPr>
        <p:sp>
          <p:nvSpPr>
            <p:cNvPr id="131" name=""/>
            <p:cNvSpPr txBox="1"/>
            <p:nvPr/>
          </p:nvSpPr>
          <p:spPr>
            <a:xfrm>
              <a:off x="5651640" y="5105520"/>
              <a:ext cx="33127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">
                <a:avLst>
                  <a:gd name="adj" fmla="val 1365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50000">
                        <a:srgbClr val="ff3399"/>
                      </a:gs>
                      <a:gs pos="100000">
                        <a:srgbClr val="3366ff"/>
                      </a:gs>
                    </a:gsLst>
                    <a:lin ang="10800000"/>
                  </a:gradFill>
                  <a:latin typeface="Arial"/>
                </a:rPr>
                <a:t>самореализация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0800000"/>
                </a:gradFill>
                <a:latin typeface="Arial"/>
                <a:ea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25920" y="6035760"/>
              <a:ext cx="204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трудняетс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16000" y="4800600"/>
            <a:ext cx="3962520" cy="2057400"/>
            <a:chOff x="1116000" y="4800600"/>
            <a:chExt cx="3962520" cy="2057400"/>
          </a:xfrm>
        </p:grpSpPr>
        <p:pic>
          <p:nvPicPr>
            <p:cNvPr id="134" name="" descr=""/>
            <p:cNvPicPr/>
            <p:nvPr/>
          </p:nvPicPr>
          <p:blipFill>
            <a:blip r:embed="rId5"/>
            <a:stretch/>
          </p:blipFill>
          <p:spPr>
            <a:xfrm>
              <a:off x="1116000" y="5181840"/>
              <a:ext cx="1033560" cy="11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6"/>
            <a:stretch/>
          </p:blipFill>
          <p:spPr>
            <a:xfrm>
              <a:off x="2335320" y="5884920"/>
              <a:ext cx="990360" cy="9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7"/>
            <a:stretch/>
          </p:blipFill>
          <p:spPr>
            <a:xfrm>
              <a:off x="2438280" y="4800600"/>
              <a:ext cx="81144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3630600" y="4953240"/>
              <a:ext cx="1447920" cy="1752480"/>
            </a:xfrm>
            <a:prstGeom prst="rightArrowCallout">
              <a:avLst>
                <a:gd name="adj1" fmla="val 30261"/>
                <a:gd name="adj2" fmla="val 30259"/>
                <a:gd name="adj3" fmla="val 16667"/>
                <a:gd name="adj4" fmla="val 45065"/>
              </a:avLst>
            </a:prstGeom>
            <a:solidFill>
              <a:srgbClr val="ffff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Геннадий</cp:lastModifiedBy>
  <dcterms:modified xsi:type="dcterms:W3CDTF">2009-03-19T19:53:02Z</dcterms:modified>
  <cp:revision>132</cp:revision>
  <dc:subject/>
  <dc:title>ОСОБЕННОСТИ ДРЕВНИХ ЦИВИЛИЗАЦИЙ.</dc:title>
</cp:coreProperties>
</file>